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660-AC3F-4743-97CB-C5809D6A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A50-63DD-4C5D-8C05-DC966EC0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C3A-314E-495E-AE96-23BD56B9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943-3113-4576-92AF-4C9C4050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9CA-657C-42BD-86E8-AE7465C8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0E7-1A88-4831-8CAD-B42790F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DEF-D462-407C-B17F-DA036077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73D-F1A3-46DA-9882-3DCDE2F2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BBB-ECB2-4115-962F-8D952C86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430-DC79-4A95-8654-F932800B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CBD-84BD-4BF0-AFB9-26D6AE15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916-D72E-4BE4-A145-35012DD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FA20-E658-4152-B567-E6A3A0604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25360"/>
            <a:ext cx="763272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EOGRAPHIC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EATUR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4880" y="4941720"/>
            <a:ext cx="555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 AN ISL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89080" y="551664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ALL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5879880" cy="394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8160" y="522936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416720" cy="495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20560" y="5361120"/>
            <a:ext cx="16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42160" cy="513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18520" y="5445000"/>
            <a:ext cx="39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49320"/>
            <a:ext cx="7920000" cy="475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350520" y="530064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90440" y="-4680"/>
            <a:ext cx="9524880" cy="686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133080" y="189000"/>
            <a:ext cx="35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297000"/>
            <a:ext cx="6985080" cy="465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1800" y="5300640"/>
            <a:ext cx="195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0:16:20Z</dcterms:created>
  <dc:creator>profesor</dc:creator>
  <dc:description/>
  <dc:language>en-US</dc:language>
  <cp:lastModifiedBy>rmi</cp:lastModifiedBy>
  <dcterms:modified xsi:type="dcterms:W3CDTF">2010-02-08T12:55:12Z</dcterms:modified>
  <cp:revision>3</cp:revision>
  <dc:subject/>
  <dc:title>Diapositiva 1</dc:title>
</cp:coreProperties>
</file>